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328-7E5C-48C6-8898-224B93C0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628-C54D-4E79-9F66-486BEA18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388-732F-4BA5-9DB1-35C6584C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F7B-3D73-4C09-AF37-3A926D06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9218-6550-4F31-A2B6-B377BE42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8EF-4B50-432C-8B9D-115D52B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AF01-F608-4EB9-AF8B-8ED7FA7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2116-8617-44F7-A94F-24405D19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705-39DC-4153-8726-A5084A3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C4F-0373-4E53-AD4F-DCCE9E7F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5FB-FF64-4292-9E23-F67578B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8DA-C27E-4D3A-9B96-8E9E44B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724-A63A-451F-8571-4703B85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955E-93CC-4F80-9CDE-E0C07D1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1EC-EA35-4B2B-B758-E7B21DC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BDC-4F22-4A9C-8223-2AEA5FED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BD45-601E-4E98-8E54-638550D2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BAFC-9DF3-4DFA-B84A-AC608DF7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C8DD-B60E-4529-9A82-0FECC1A5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EE51-8DC5-475C-B5AF-4B42ADF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F222-57C7-4C72-AF0C-7B856FC2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2D61-F822-4B51-B0BA-17138FD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9B4-4DD6-41C1-87A1-C489AF4E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E5F3-93F6-416E-8BBE-C364B0D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A5F9-29C9-4E22-9040-BA5EEC4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93D7-5F5E-4AD4-99E4-0DDC118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CBAD-B493-4ECC-A6A4-1FF29357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03AC-212E-4C02-B4AD-6C3F90F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03CF-07DE-41C4-8B56-CE40FA5D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EAF3-9502-49CE-A99C-EC816503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073F-F523-499D-AEA0-C8A32988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D1D1-CA0C-484C-B07A-3321677E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8479-5048-4532-ABD1-DFED4A1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BB5-A656-42C7-BA90-16EA78B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9669-501A-4324-93E4-BCBBF613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4004-F2F6-4DC9-BD20-4F29B36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4AC1-FC1B-4E70-8B81-76A4D9A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C924-AD3B-4943-966C-39E52A6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D80E-4DDB-4828-9272-D31D128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8F01-6332-468B-B9D7-05F78D1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2932-2442-4A2A-8C5B-EFD1A7B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1879-00B6-4770-9F34-B7BF4525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4E37-E38B-4F6B-B6B8-37D49CA5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7405-1EA7-408E-96F0-E869CEB4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9EA-5A00-46C7-90F5-D74ABF3B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ABF5-F42B-408E-9ACF-C2EBEA5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2E85-2C2B-4024-B0FB-A197F049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7661-76CF-44DE-8A84-6A32D19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D6FF-E192-4ED4-B3E4-B4A07DE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60FB-2A84-4972-88C6-31E4DA8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BD33-00FF-4585-88F6-7C5F4F5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04E1-87E4-4654-932E-4810312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3BD3-0707-4310-88C2-936F55D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295D-BDD3-4EF7-AC17-592014AB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4CCA-C1CF-4FD7-B11C-F90307C9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753-8E9F-40C3-B3AF-D0807A23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8DC1-1231-41DD-9075-5B31B2B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E5FF-CFC5-4D19-98AB-08BE5EE0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837D-5C15-4C73-BDE1-D902749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9100-3130-49E5-96F2-9B35CC37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103A-B31D-4BEA-91A7-45457F5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A7CA-14E4-4ED6-B4E8-7D7A843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2C7A-3142-4B5A-A894-B97D1844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CEEAF-FA66-4353-A22A-F90EABE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9912-EC9D-47D9-AED8-BFACEA6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5F05-BA70-42AA-B7BD-B94F5B1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E21-8748-4A4B-BD6C-95E5109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1A7D-7955-4219-B039-89247767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1A9D-B265-421B-81B8-8F9B800A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3DB83-4C59-41CD-9BC9-68B0C390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1A39-980A-4257-882A-0139AD3E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2350D-C2DD-477A-A515-46EDEDC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3B7E-431C-44AB-AF29-4DAAA4C7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B88B-E314-4317-8CE4-397ED9F2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678D1-5659-44C3-B568-71A285F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4A4D1-AF09-4E76-B1A4-FB99169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E410-7A68-48C4-8C83-28FF165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6E7-6CFE-4A27-BC50-5C488EF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537E-6964-4850-92CE-7123B5B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CC29-2910-4196-9482-8C9E7D3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DB91-C6C8-4D1B-8332-B4C9016F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2844-F842-4727-B69C-863A6D2E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CCEAE-C5FC-42ED-936C-C76DBB47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965-7D3F-4ADA-ABED-01AAE05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CBE-E5A7-4637-BF4A-982FF8CDBF2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2E31-E967-42EA-80CD-CF0ED2DCD2A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EB47-C393-455A-98E2-58DF274C1B1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0185-3F24-46B5-9FC9-6074A499A0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A9B-F5BF-4C1C-A053-1CA521B425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B4E-0934-4541-9E90-A9CB8709296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D5E0-1E32-4538-A9B1-37B49CEF0A7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orfo.ru/" TargetMode="External"/><Relationship Id="rId3" Type="http://schemas.openxmlformats.org/officeDocument/2006/relationships/hyperlink" Target="http://www.ypoku.ru/rya_gram1.html" TargetMode="External"/><Relationship Id="rId4" Type="http://schemas.openxmlformats.org/officeDocument/2006/relationships/hyperlink" Target="http://banklawyer.narod.ru/Russkuyzuk/00002P.htm" TargetMode="External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530280" y="536400"/>
            <a:ext cx="8205840" cy="1730520"/>
          </a:xfrm>
          <a:prstGeom prst="rect">
            <a:avLst/>
          </a:prstGeom>
          <a:ln w="0">
            <a:noFill/>
          </a:ln>
        </p:spPr>
      </p:pic>
      <p:pic>
        <p:nvPicPr>
          <p:cNvPr id="314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663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just">
              <a:spcBef>
                <a:spcPts val="400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усский язык: учеб. Для 5 кл. общеобразоват. Учреждений / [Т. А. Ладыженская, М. Т. Баранов, Л.А. Тростенцова и др.]. – 35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spcBef>
                <a:spcPts val="400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усский язык. Теория. 5 -9кл.:  учебник для общеобразоват. учреждений / В.В. Бабайцева, Л.Д. Чеснокова, М.: Дрофа-2009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http://www.orfo.r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http://www.ypoku.ru/rya_gram1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4"/>
              </a:rPr>
              <a:t>http://banklawyer.narod.ru/Russkuyzuk/00002P.htm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just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От чего зависит грамотность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536400" y="596880"/>
            <a:ext cx="8071200" cy="860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Схема 4" descr=""/>
          <p:cNvPicPr/>
          <p:nvPr/>
        </p:nvPicPr>
        <p:blipFill>
          <a:blip r:embed="rId2"/>
          <a:stretch/>
        </p:blipFill>
        <p:spPr>
          <a:xfrm>
            <a:off x="1511280" y="1414440"/>
            <a:ext cx="6205680" cy="410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Формирование орфографической грамот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4376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36400" y="-12600"/>
            <a:ext cx="8302680" cy="1469880"/>
          </a:xfrm>
          <a:prstGeom prst="rect">
            <a:avLst/>
          </a:prstGeom>
          <a:ln w="0">
            <a:noFill/>
          </a:ln>
        </p:spPr>
      </p:pic>
      <p:pic>
        <p:nvPicPr>
          <p:cNvPr id="324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3554280"/>
          </a:xfrm>
          <a:prstGeom prst="rect">
            <a:avLst/>
          </a:prstGeom>
          <a:ln w="0">
            <a:noFill/>
          </a:ln>
        </p:spPr>
      </p:pic>
      <p:pic>
        <p:nvPicPr>
          <p:cNvPr id="325" name="Схема 4" descr=""/>
          <p:cNvPicPr/>
          <p:nvPr/>
        </p:nvPicPr>
        <p:blipFill>
          <a:blip r:embed="rId3"/>
          <a:stretch/>
        </p:blipFill>
        <p:spPr>
          <a:xfrm>
            <a:off x="1517760" y="1378080"/>
            <a:ext cx="6565680" cy="48765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5"/>
          <p:cNvSpPr/>
          <p:nvPr/>
        </p:nvSpPr>
        <p:spPr>
          <a:xfrm>
            <a:off x="0" y="-523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41736 0.58079 E">
                                      <p:cBhvr>
                                        <p:cTn id="1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Корни, в которых чередуются гласн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равила правописания этих корне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2 недел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3 урока по 40 мину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67920" cy="1407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Формулировка и выбор тем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оиск информац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Самостоятельная работа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Защита проек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Подведение итог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05:11Z</dcterms:created>
  <dc:creator>евгения</dc:creator>
  <dc:description/>
  <dc:language>en-US</dc:language>
  <cp:lastModifiedBy>евгения</cp:lastModifiedBy>
  <dcterms:modified xsi:type="dcterms:W3CDTF">2010-04-07T18:11:24Z</dcterms:modified>
  <cp:revision>38</cp:revision>
  <dc:subject/>
  <dc:title>Правописание корней с чередующимися гласными.</dc:title>
</cp:coreProperties>
</file>